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B15C-4DC1-4C94-9233-9C38C9C0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n the other strands do you find connections to proportional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acilitators hike around and collect informal diagnostic assessment for learning.  Think aloud observations to model for campers the purpose of Minds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nds On different than the main probl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acilitators select several samples – indicators of additive, additive &amp; multiplicative, multiplicative th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and campers describe their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format of a Congress and conceptual development of multiplicative thinkin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CB9-3358-4160-B861-87D6F6ED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CA4-71D5-43F5-A3A7-B8210184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BCA-7BD5-47AE-9877-ECE521A7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73E-739B-414D-B3D6-34777D04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3880-1F15-453D-AC69-5F510A2C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F428-DC3C-4ACA-B193-7D611BFD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FD56-D266-42C6-8C35-F0CFBC16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D651-A5B9-4BEC-ABBE-205BB574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56C8-2565-4BD9-89F8-CB7FD14C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A3D9-D2D3-44B1-9518-2F12727D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3A46-EB74-423E-B6F8-2B31EFF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931-9ED7-4ACF-9131-E37A1D66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A60B-2E87-4D80-858D-8F25F2CE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1036-2CC1-476C-B387-A616E9B0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EA8E-D41E-495B-9314-0ECCDCC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FB25-5E19-4290-8BDC-AA989BAC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55D0-87C8-4CA5-A85F-54F897F1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76F-D5F9-4C70-B66D-FDF3F90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A42-D79F-4F3E-8D67-382B4D3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361-4141-4757-875D-8B27A2E9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663-5A06-45B5-9E00-CC68A624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293-C62A-4BDF-8E3A-7EE7FF27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746-02E9-4F66-A367-A052641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50B-5FDB-454F-83BE-BEC6632B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D11F-341A-4C0E-AD44-68D4618DFDA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95D4-58E8-4592-B7EE-810E14F42D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Finding the path . . 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Session 2 - Mor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fter/Part 3/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lve the problem in your jour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 has 4 cards and now has 12 cards.  C has 10 cards and now has 20.  Would you rather be M or C? Explain your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cus:  What questions would you ask to move a students’ thinking from additive to multiplic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this third part be an assessment (of)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uilding the Fire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having a continuum of proportional thinking from K – 12 be of va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we investigating proportional reasoning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thoughts on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oportional Reasoning and Investigation Connections in Math Strand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692360" cy="16650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1493640" cy="149364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2" descr=""/>
          <p:cNvPicPr/>
          <p:nvPr/>
        </p:nvPicPr>
        <p:blipFill>
          <a:blip r:embed="rId3"/>
          <a:stretch/>
        </p:blipFill>
        <p:spPr>
          <a:xfrm>
            <a:off x="826920" y="227664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932360" y="4221000"/>
            <a:ext cx="2247840" cy="208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268360" y="4437000"/>
            <a:ext cx="201780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cavenger Hun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s many examples of investigation requiring proportional reasoning and multiplication models in the Ontario Document. (Grade 3 groups look at Grade 2-3, Grade 4 groups looks at grade 3 – 4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ng in T-charts to develop the continuum on the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amp Journal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 one new connection you’ve made about proportional reasoning during your first day of Math CamPP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389400" cy="2565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epen understanding of the continuum of thinking that links additive and multiplicativ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ience, identify and clarify 3 part lesson structure and terminologies (Before, During, After/Minds On, Action, Consolidation/Getting Started…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fore/Part 1/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any different ways can you organize 16 cards.  Record your solutions in your math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uring/Part 2/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group solve the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have 100 Yugio cards a day for ten days. Or you can have 1 card doubled every day for 10 days.  What would you choo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your thinking and solution on the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During/Part 2/Action …continued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h Congress/Forum/Show and Share/Senate/Think 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ew the post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en to the group’s thinking about thei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 respectful questions – honour each others’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tonnerj</cp:lastModifiedBy>
  <dcterms:modified xsi:type="dcterms:W3CDTF">2010-08-17T00:51:02Z</dcterms:modified>
  <cp:revision>150</cp:revision>
  <dc:subject/>
  <dc:title>Slide 1</dc:title>
</cp:coreProperties>
</file>